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43C080-1524-481E-A997-8310C99F18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3E7-3A5D-4C30-B1FA-9BC95378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615-8FBD-4B5B-BC92-1AC24255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E19-3FF1-4A3B-92F5-80CD3B7A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8C3-8145-47E9-AAFB-DC6646A6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29E-7E75-44DC-9BB4-57518ECD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018-C75C-4B2E-840C-65004CDE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E07-CD4A-4A32-A813-83C20F6F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EEC-95E3-4C72-AB7A-9C2E6BE4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4EB-1FEB-459A-873C-6A31DAEC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44D-3A00-4BB5-A7D5-8184F599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351-A42F-49ED-AAD6-0698996E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AD2-BC5C-4C6C-8965-E149026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72227A-0117-4E14-94D9-5D3FE528BF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95360" y="360360"/>
            <a:ext cx="6524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312840"/>
            <a:ext cx="64008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64008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32080" y="312840"/>
            <a:ext cx="612612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312840"/>
            <a:ext cx="66294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7400" y="312840"/>
            <a:ext cx="640080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32080" y="312840"/>
            <a:ext cx="612612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68580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66294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7400" y="312840"/>
            <a:ext cx="64008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312840"/>
            <a:ext cx="662940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60720" y="179280"/>
            <a:ext cx="630072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66294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312840"/>
            <a:ext cx="70866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73152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70866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75438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1600" y="312840"/>
            <a:ext cx="754380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708660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6858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66294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312840"/>
            <a:ext cx="66294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32080" y="312840"/>
            <a:ext cx="635472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